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9.wmf" ContentType="image/x-wmf"/>
  <Override PartName="/ppt/media/image42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2871-62A4-48CC-B359-BACA78ED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6740-6E71-44D5-8D7E-E3D22FEAA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oijoijoijioijoijoij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041-9F6C-4DDD-9A04-6CB203E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27E-7A7C-43CE-BE02-151B9202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6EB-A167-42D1-B0CF-1FB847CE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DB0-CD43-40BF-8765-9E953F58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79A8-028A-420E-A94E-C7C2E852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34FB-AC9F-47F5-8137-ACD14CC2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7E97-27E8-4D19-B4C7-B30CEA5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070-CB70-4D62-97B1-712E032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D48D-1448-4C04-8285-CFAC674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453-9F67-4060-A86C-31A92210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15C4-36B6-4F18-BE55-178B135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44F-A77B-4080-85E4-3ED49FD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291-5FE2-44D2-BEA2-BF201F4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0DC6-4885-4615-83F0-0498D1D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5D7A-081B-46E0-974D-F4D0DE0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0E9-5C6A-47BC-9AA8-E8AD2B6C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DEAC-514B-462B-98AA-614BEB89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366C-770D-48BA-88CB-0249575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4A5C-D69A-4832-B2C3-5E8A53F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6278-75CE-4DE6-B4DB-5109CB3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F537-F832-4C06-ABE4-A931FF8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E888-69FD-463A-997A-1B9E76E6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477-C151-480D-96FE-79CACF6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76D7-F0BD-4DAB-A9FD-DCCE9C5B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CC02-AEB7-4E32-A4A7-2EF1574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4297-2B27-4300-B2D8-23203B2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D3D2-BEA0-4D25-8522-BA89565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E1AE-4C2A-4CD6-B9F2-291C0C4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C6E7-9EF0-4388-A64D-D3063DDB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F69C-9F49-4475-8C26-BC3D142A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9FF5-D8A7-4D53-94B4-4AD49254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9D49-5BEF-4E7B-8C82-6C746C3E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3A7E-4622-4C65-A639-9FDD3DE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046-28B9-45D4-9633-6348209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34CA-8187-4C03-ADAD-F29C19E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DDEF-4D96-4532-9DBD-48280B6F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5007-341E-4A1B-950D-E1378F1D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AAE5-683A-475B-8D53-1FF4A76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9978-5E37-402A-BAB8-DD84C62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5856-9DD0-40D5-A887-FE6DE06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0BA9-F8FB-453B-A53D-A5C55CC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F5EA-F686-4660-B567-C0BCA264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7760-8CF3-422D-9F06-4451DEE2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32D6-95A8-4F38-B300-835F1C78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5C1-C07E-4726-B12D-A1FC263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A200-112A-46BF-8F23-5A449CCE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B7DDD-11E3-49F4-8DA9-384D316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EB58-DFA0-47CE-BD3B-2F7CF10D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AA05-CC2C-49CA-A37A-9F6FA4C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6D8D-8B92-47E5-B4E1-F346AE6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7A4F-5D4C-456C-90D2-C052649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B41E-0D86-4428-9486-A4A1765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49B0-DF68-44FD-BDC3-6DD56DE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3ED8-DA9E-4A0D-839F-D41F555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A910-A39D-4A3F-B39A-D081CB28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214-A4EB-40B7-BB49-1CED331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3F5D-00F4-42BF-8B71-254764CF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643-E421-4C83-80C8-0FB3E64E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41E-FC42-45A9-AA4E-33E9F09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241-C540-4F6E-B65B-9684BD2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EF7-36D5-4759-B78D-C79AF24D91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B0B-9A7F-4CDA-96FC-6B88C9B67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AC7-D789-4F03-B1C1-0A0DB77E283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CC1-3AF4-41C5-AC58-7F68CF58ED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F53-A33E-48D4-8E48-4808BCA912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en.wikipedia.org/wiki/Image:DavidSouter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Image:Anthony_Kennedy_Official.jpg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hyperlink" Target="http://en.wikipedia.org/wiki/Image:Samuel_Alito_Court_of_Appeals_photo.jpg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Judicial Branch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P Politica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) U.S. Courts of App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help lessen the work load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appeals from U.S. district cour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U.S. Court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s are divided into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circu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or geographic judicial districts (not every state has 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so a circuit for Washington, D.C. and a special appeals court with national jurisd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only review cases already decided by a lower cou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nel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judges decide cases in the Courts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minated by President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Courts of Appeal Circui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7" descr="image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)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ly court actually created directly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est cour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the federal judici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authority in dealing with questions arising from the Constitution, federal laws, and trea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bo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and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0%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cases a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om lower feder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gress establishes the size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size –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ssociate justices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hief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nominated by President of the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lif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ef Justice John Roberts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Official_roberts_CJ"/>
          <p:cNvPicPr/>
          <p:nvPr/>
        </p:nvPicPr>
        <p:blipFill>
          <a:blip r:embed="rId2"/>
          <a:stretch/>
        </p:blipFill>
        <p:spPr>
          <a:xfrm>
            <a:off x="5715000" y="1371600"/>
            <a:ext cx="1646280" cy="21034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5" descr="David Hackett Sou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8640" y="3789360"/>
            <a:ext cx="10443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Anthony McLeod Kenned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9" descr="AntoninScalia"/>
          <p:cNvPicPr/>
          <p:nvPr/>
        </p:nvPicPr>
        <p:blipFill>
          <a:blip r:embed="rId8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Samuel Anthony Alit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"/>
          <p:cNvPicPr/>
          <p:nvPr/>
        </p:nvPicPr>
        <p:blipFill>
          <a:blip r:embed="rId11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"/>
          <p:cNvPicPr/>
          <p:nvPr/>
        </p:nvPicPr>
        <p:blipFill>
          <a:blip r:embed="rId12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4" descr="Robertsoath"/>
          <p:cNvPicPr/>
          <p:nvPr/>
        </p:nvPicPr>
        <p:blipFill>
          <a:blip r:embed="rId1"/>
          <a:stretch/>
        </p:blipFill>
        <p:spPr>
          <a:xfrm>
            <a:off x="762120" y="144792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Alitoswornin"/>
          <p:cNvPicPr/>
          <p:nvPr/>
        </p:nvPicPr>
        <p:blipFill>
          <a:blip r:embed="rId2"/>
          <a:stretch/>
        </p:blipFill>
        <p:spPr>
          <a:xfrm>
            <a:off x="4191120" y="35053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mal qualifications for federal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deral judges ser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during good behavior”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generally means for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hy?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llows judges to be free from political pressures when deciding cases (don’t have to worry about being re-elec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removed from office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conv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ederal judges impeached 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7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nd guilty and rem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Lower Cour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ident has little to do with cho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e to large # of appointments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partment o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ouse staf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ndle most of these no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atorial Courte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ing senators from president’s party who represents the state with the vacancy to approve or disapprove nomin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Supreme Cour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ident gives more attention to nominations to Supreme Court (higher visibility and import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making appointments, presidents often consi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rty affili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from their pol.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philosoph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who share their political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ce, gender, religion, reg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experience as judge or attorn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tmus test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based on their view on 1 single issue (ex. Abor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ceptabilit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who is non-controversial and will be easily confirmed by the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Background of Supreme Court Judg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most all federal judges ha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d legal tra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ld positions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yers for leading law fi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federal district attor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 school profess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 African-Americans, Hispanics, or Wo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Lyndon B. Johns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African Americ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preme Court Justic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urgood Mars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Ronald Reag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the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female Supreme Court Justice, Sandra Day O’Conn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4" name="Picture 4" descr="aa_marshallthrgd_law_3_e"/>
          <p:cNvPicPr/>
          <p:nvPr/>
        </p:nvPicPr>
        <p:blipFill>
          <a:blip r:embed="rId1"/>
          <a:stretch/>
        </p:blipFill>
        <p:spPr>
          <a:xfrm>
            <a:off x="5348160" y="990720"/>
            <a:ext cx="1916280" cy="2361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sandra-crop"/>
          <p:cNvPicPr/>
          <p:nvPr/>
        </p:nvPicPr>
        <p:blipFill>
          <a:blip r:embed="rId2"/>
          <a:stretch/>
        </p:blipFill>
        <p:spPr>
          <a:xfrm>
            <a:off x="64771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the Supreme Court in sess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m of the Supreme Court begins o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st Monday in Oc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and generally lasts unti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ne or Ju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following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judicial branch und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courts had sole authority over all cases – major weakness of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dicial Branch creat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U.S.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deral court created –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power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g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reate any lower federal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5" descr="POLRES%20FedCrt"/>
          <p:cNvPicPr/>
          <p:nvPr/>
        </p:nvPicPr>
        <p:blipFill>
          <a:blip r:embed="rId1"/>
          <a:stretch/>
        </p:blipFill>
        <p:spPr>
          <a:xfrm>
            <a:off x="533520" y="4572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555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556" name="Ink 7" descr=""/>
          <p:cNvPicPr/>
          <p:nvPr/>
        </p:nvPicPr>
        <p:blipFill>
          <a:blip r:embed="rId3"/>
          <a:stretch/>
        </p:blipFill>
        <p:spPr>
          <a:xfrm>
            <a:off x="1917720" y="3352680"/>
            <a:ext cx="138240" cy="1011240"/>
          </a:xfrm>
          <a:prstGeom prst="rect">
            <a:avLst/>
          </a:prstGeom>
          <a:ln w="0">
            <a:noFill/>
          </a:ln>
        </p:spPr>
      </p:pic>
      <p:pic>
        <p:nvPicPr>
          <p:cNvPr id="557" name="Ink 8" descr=""/>
          <p:cNvPicPr/>
          <p:nvPr/>
        </p:nvPicPr>
        <p:blipFill>
          <a:blip r:embed="rId4"/>
          <a:stretch/>
        </p:blipFill>
        <p:spPr>
          <a:xfrm>
            <a:off x="3149640" y="4172040"/>
            <a:ext cx="1219320" cy="336600"/>
          </a:xfrm>
          <a:prstGeom prst="rect">
            <a:avLst/>
          </a:prstGeom>
          <a:ln w="0">
            <a:noFill/>
          </a:ln>
        </p:spPr>
      </p:pic>
      <p:pic>
        <p:nvPicPr>
          <p:cNvPr id="558" name="Ink 9" descr=""/>
          <p:cNvPicPr/>
          <p:nvPr/>
        </p:nvPicPr>
        <p:blipFill>
          <a:blip r:embed="rId5"/>
          <a:stretch/>
        </p:blipFill>
        <p:spPr>
          <a:xfrm>
            <a:off x="4935600" y="3676680"/>
            <a:ext cx="325440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Ink 10" descr=""/>
          <p:cNvPicPr/>
          <p:nvPr/>
        </p:nvPicPr>
        <p:blipFill>
          <a:blip r:embed="rId6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560" name="Ink 11" descr=""/>
          <p:cNvPicPr/>
          <p:nvPr/>
        </p:nvPicPr>
        <p:blipFill>
          <a:blip r:embed="rId7"/>
          <a:stretch/>
        </p:blipFill>
        <p:spPr>
          <a:xfrm>
            <a:off x="4151160" y="1198440"/>
            <a:ext cx="3351240" cy="416160"/>
          </a:xfrm>
          <a:prstGeom prst="rect">
            <a:avLst/>
          </a:prstGeom>
          <a:ln w="0">
            <a:noFill/>
          </a:ln>
        </p:spPr>
      </p:pic>
      <p:pic>
        <p:nvPicPr>
          <p:cNvPr id="561" name="Ink 12" descr=""/>
          <p:cNvPicPr/>
          <p:nvPr/>
        </p:nvPicPr>
        <p:blipFill>
          <a:blip r:embed="rId8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  <p:pic>
        <p:nvPicPr>
          <p:cNvPr id="562" name="Ink 13" descr=""/>
          <p:cNvPicPr/>
          <p:nvPr/>
        </p:nvPicPr>
        <p:blipFill>
          <a:blip r:embed="rId9"/>
          <a:stretch/>
        </p:blipFill>
        <p:spPr>
          <a:xfrm>
            <a:off x="1890720" y="3362400"/>
            <a:ext cx="165240" cy="1011240"/>
          </a:xfrm>
          <a:prstGeom prst="rect">
            <a:avLst/>
          </a:prstGeom>
          <a:ln w="0">
            <a:noFill/>
          </a:ln>
        </p:spPr>
      </p:pic>
      <p:pic>
        <p:nvPicPr>
          <p:cNvPr id="563" name="Ink 14" descr=""/>
          <p:cNvPicPr/>
          <p:nvPr/>
        </p:nvPicPr>
        <p:blipFill>
          <a:blip r:embed="rId10"/>
          <a:stretch/>
        </p:blipFill>
        <p:spPr>
          <a:xfrm>
            <a:off x="4944960" y="3706920"/>
            <a:ext cx="3335400" cy="372960"/>
          </a:xfrm>
          <a:prstGeom prst="rect">
            <a:avLst/>
          </a:prstGeom>
          <a:ln w="0">
            <a:noFill/>
          </a:ln>
        </p:spPr>
      </p:pic>
      <p:pic>
        <p:nvPicPr>
          <p:cNvPr id="564" name="Ink 15" descr=""/>
          <p:cNvPicPr/>
          <p:nvPr/>
        </p:nvPicPr>
        <p:blipFill>
          <a:blip r:embed="rId11"/>
          <a:stretch/>
        </p:blipFill>
        <p:spPr>
          <a:xfrm>
            <a:off x="3159000" y="4135320"/>
            <a:ext cx="120024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upreme Court accept a case to re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ousa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ases are appealed to the Supreme Court every year-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w hundr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actually he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ases denied beca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) Justices agree with the lower court deci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.) Justices believe the case does not involve a significant point of l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that are accepted must meet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le of fo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 of the nine justices must agree to hear the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f the cases accepted may be disposed of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ief o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ed to the lower court for reconsideration because of a related case which was recently decid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presented to the Supreme Court may be presented throu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.) Writ of Certiorar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n order by the Court (when petitioned) directing a lower court to send up records of a case for re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.)Certific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 lower court asks the Supreme Court about a rule of law or procedures in specific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ase reaches the Supreme Court, lawyers for each party file a writt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detailed statement of the facts of the case supporting a particular position by presenting arguments based on relevant facts and citations from previous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rgu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both sides to present their positions to the justices during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 minute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may interrupt lawyers during this time, raising questions or challenging points of la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reme Court decisions are explained in a written statement called 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ajority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ie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inority, the mo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ior associate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majority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Types of Opin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 Majority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pinion agreed upon by a majority of the jus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 Concurr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 or justices who agree with the majority opinion, but not with the reasoning behind the deci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Dissent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s or justices who disagree with the majority opi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pinion becom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ce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ndards or guides to be followed in deciding similar cases in the fu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.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oe v. Wad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abortion),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Mapp v. Ohi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xclusionary ru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ren Court (1953-19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Earl War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aid to be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most liberal court ever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rown v. Board of Education (195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ed segregation in public sch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Gideon v. Wainwright (196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states required to provide attorneys for those accused of a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iranda v. Arizona (1966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lice have to inform anyone questioned of their rights in order to use the information in co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asset_upload_file983_12268"/>
          <p:cNvPicPr/>
          <p:nvPr/>
        </p:nvPicPr>
        <p:blipFill>
          <a:blip r:embed="rId1"/>
          <a:stretch/>
        </p:blipFill>
        <p:spPr>
          <a:xfrm>
            <a:off x="9907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rger Court (1969-198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Warren Bur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ed the Supreme Court to 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nserv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ichard Nix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oe v. Wade (1973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declared abortions legal with special time constra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U.S. v. Nixon (1974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led that President Nixon’s private recordings were not protected under presidential privilege and ordered them be turned over to the house investig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4" descr="pf041950"/>
          <p:cNvPicPr/>
          <p:nvPr/>
        </p:nvPicPr>
        <p:blipFill>
          <a:blip r:embed="rId1"/>
          <a:stretch/>
        </p:blipFill>
        <p:spPr>
          <a:xfrm>
            <a:off x="5638680" y="4343400"/>
            <a:ext cx="18748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hnquist Court (1986-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ief Justice William Rehnqu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ervativ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continued to limit, but not reverse, decisions of earlier more liberal courts in the areas of defendant’s rights, abortion, and affirma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Planned Parenthood v. Casey (1992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held and ruled constitutional a Pennsylvania law requiring a minor to wait 24 hours after receiving parental approval before getting an abortion – but ruled unconstitutional a provision that required a woman to obtain “informed spousal consent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fore having an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Roper v. Simmons (200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lared that the death penalty was unconstitutional for anyone under the age of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230px-William_Rehnquist"/>
          <p:cNvPicPr/>
          <p:nvPr/>
        </p:nvPicPr>
        <p:blipFill>
          <a:blip r:embed="rId1"/>
          <a:stretch/>
        </p:blipFill>
        <p:spPr>
          <a:xfrm>
            <a:off x="4495680" y="4876920"/>
            <a:ext cx="14302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 Typ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.) Judicial Activ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play a more active role in creating national policies and answering questions of conflict in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.) Judicial Restra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operate strictly within the limits of the Constitution and only answer questions if a clear violation of the Constitution is present. Policy making should be left up to the executive and legislative branch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0" name="Picture 9" descr="taf2"/>
          <p:cNvPicPr/>
          <p:nvPr/>
        </p:nvPicPr>
        <p:blipFill>
          <a:blip r:embed="rId1"/>
          <a:stretch/>
        </p:blipFill>
        <p:spPr>
          <a:xfrm>
            <a:off x="990720" y="1143000"/>
            <a:ext cx="4876560" cy="48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Checks%20and%20Balances"/>
          <p:cNvPicPr/>
          <p:nvPr/>
        </p:nvPicPr>
        <p:blipFill>
          <a:blip r:embed="rId1"/>
          <a:stretch/>
        </p:blipFill>
        <p:spPr>
          <a:xfrm>
            <a:off x="1523880" y="228600"/>
            <a:ext cx="6115320" cy="6248520"/>
          </a:xfrm>
          <a:prstGeom prst="rect">
            <a:avLst/>
          </a:prstGeom>
          <a:ln w="0">
            <a:noFill/>
          </a:ln>
        </p:spPr>
      </p:pic>
      <p:pic>
        <p:nvPicPr>
          <p:cNvPr id="566" name="Ink 6" descr=""/>
          <p:cNvPicPr/>
          <p:nvPr/>
        </p:nvPicPr>
        <p:blipFill>
          <a:blip r:embed="rId2"/>
          <a:stretch/>
        </p:blipFill>
        <p:spPr>
          <a:xfrm>
            <a:off x="3971880" y="5172120"/>
            <a:ext cx="1424160" cy="264960"/>
          </a:xfrm>
          <a:prstGeom prst="rect">
            <a:avLst/>
          </a:prstGeom>
          <a:ln w="0">
            <a:noFill/>
          </a:ln>
        </p:spPr>
      </p:pic>
      <p:pic>
        <p:nvPicPr>
          <p:cNvPr id="567" name="Ink 7" descr=""/>
          <p:cNvPicPr/>
          <p:nvPr/>
        </p:nvPicPr>
        <p:blipFill>
          <a:blip r:embed="rId3"/>
          <a:stretch/>
        </p:blipFill>
        <p:spPr>
          <a:xfrm>
            <a:off x="4346640" y="5375160"/>
            <a:ext cx="807840" cy="25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8" descr=""/>
          <p:cNvPicPr/>
          <p:nvPr/>
        </p:nvPicPr>
        <p:blipFill>
          <a:blip r:embed="rId4"/>
          <a:stretch/>
        </p:blipFill>
        <p:spPr>
          <a:xfrm>
            <a:off x="4267080" y="5546880"/>
            <a:ext cx="922320" cy="282600"/>
          </a:xfrm>
          <a:prstGeom prst="rect">
            <a:avLst/>
          </a:prstGeom>
          <a:ln w="0">
            <a:noFill/>
          </a:ln>
        </p:spPr>
      </p:pic>
      <p:pic>
        <p:nvPicPr>
          <p:cNvPr id="569" name="Ink 9" descr=""/>
          <p:cNvPicPr/>
          <p:nvPr/>
        </p:nvPicPr>
        <p:blipFill>
          <a:blip r:embed="rId5"/>
          <a:stretch/>
        </p:blipFill>
        <p:spPr>
          <a:xfrm>
            <a:off x="4213080" y="5672160"/>
            <a:ext cx="1022400" cy="291960"/>
          </a:xfrm>
          <a:prstGeom prst="rect">
            <a:avLst/>
          </a:prstGeom>
          <a:ln w="0">
            <a:noFill/>
          </a:ln>
        </p:spPr>
      </p:pic>
      <p:pic>
        <p:nvPicPr>
          <p:cNvPr id="570" name="Ink 10" descr=""/>
          <p:cNvPicPr/>
          <p:nvPr/>
        </p:nvPicPr>
        <p:blipFill>
          <a:blip r:embed="rId6"/>
          <a:stretch/>
        </p:blipFill>
        <p:spPr>
          <a:xfrm>
            <a:off x="4230720" y="5832360"/>
            <a:ext cx="950760" cy="2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.S. Court System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 ha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of cour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federal law or any constitutional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e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stat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05120" y="44197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mina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charges an individual with violating one or more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ivi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resolves a dispute between two pa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x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away Ju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reme Court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District Court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through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.S. Court of Appeal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appe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Picture 4" descr="fig1"/>
          <p:cNvPicPr/>
          <p:nvPr/>
        </p:nvPicPr>
        <p:blipFill>
          <a:blip r:embed="rId1"/>
          <a:stretch/>
        </p:blipFill>
        <p:spPr>
          <a:xfrm>
            <a:off x="1447920" y="3192480"/>
            <a:ext cx="6172200" cy="3408480"/>
          </a:xfrm>
          <a:prstGeom prst="rect">
            <a:avLst/>
          </a:prstGeom>
          <a:ln w="0">
            <a:noFill/>
          </a:ln>
        </p:spPr>
      </p:pic>
      <p:pic>
        <p:nvPicPr>
          <p:cNvPr id="577" name="Ink 5" descr=""/>
          <p:cNvPicPr/>
          <p:nvPr/>
        </p:nvPicPr>
        <p:blipFill>
          <a:blip r:embed="rId2"/>
          <a:stretch/>
        </p:blipFill>
        <p:spPr>
          <a:xfrm>
            <a:off x="3857760" y="6000840"/>
            <a:ext cx="492120" cy="233280"/>
          </a:xfrm>
          <a:prstGeom prst="rect">
            <a:avLst/>
          </a:prstGeom>
          <a:ln w="0">
            <a:noFill/>
          </a:ln>
        </p:spPr>
      </p:pic>
      <p:pic>
        <p:nvPicPr>
          <p:cNvPr id="578" name="Ink 6" descr=""/>
          <p:cNvPicPr/>
          <p:nvPr/>
        </p:nvPicPr>
        <p:blipFill>
          <a:blip r:embed="rId3"/>
          <a:stretch/>
        </p:blipFill>
        <p:spPr>
          <a:xfrm>
            <a:off x="3784680" y="3440160"/>
            <a:ext cx="1530360" cy="272880"/>
          </a:xfrm>
          <a:prstGeom prst="rect">
            <a:avLst/>
          </a:prstGeom>
          <a:ln w="0">
            <a:noFill/>
          </a:ln>
        </p:spPr>
      </p:pic>
      <p:pic>
        <p:nvPicPr>
          <p:cNvPr id="579" name="Ink 7" descr=""/>
          <p:cNvPicPr/>
          <p:nvPr/>
        </p:nvPicPr>
        <p:blipFill>
          <a:blip r:embed="rId4"/>
          <a:stretch/>
        </p:blipFill>
        <p:spPr>
          <a:xfrm>
            <a:off x="4168800" y="4635360"/>
            <a:ext cx="771480" cy="263520"/>
          </a:xfrm>
          <a:prstGeom prst="rect">
            <a:avLst/>
          </a:prstGeom>
          <a:ln w="0">
            <a:noFill/>
          </a:ln>
        </p:spPr>
      </p:pic>
      <p:pic>
        <p:nvPicPr>
          <p:cNvPr id="580" name="Ink 8" descr=""/>
          <p:cNvPicPr/>
          <p:nvPr/>
        </p:nvPicPr>
        <p:blipFill>
          <a:blip r:embed="rId5"/>
          <a:stretch/>
        </p:blipFill>
        <p:spPr>
          <a:xfrm>
            <a:off x="4141800" y="4867200"/>
            <a:ext cx="852480" cy="249480"/>
          </a:xfrm>
          <a:prstGeom prst="rect">
            <a:avLst/>
          </a:prstGeom>
          <a:ln w="0">
            <a:noFill/>
          </a:ln>
        </p:spPr>
      </p:pic>
      <p:pic>
        <p:nvPicPr>
          <p:cNvPr id="581" name="Ink 9" descr=""/>
          <p:cNvPicPr/>
          <p:nvPr/>
        </p:nvPicPr>
        <p:blipFill>
          <a:blip r:embed="rId6"/>
          <a:stretch/>
        </p:blipFill>
        <p:spPr>
          <a:xfrm>
            <a:off x="4338720" y="5931000"/>
            <a:ext cx="601560" cy="247680"/>
          </a:xfrm>
          <a:prstGeom prst="rect">
            <a:avLst/>
          </a:prstGeom>
          <a:ln w="0">
            <a:noFill/>
          </a:ln>
        </p:spPr>
      </p:pic>
      <p:pic>
        <p:nvPicPr>
          <p:cNvPr id="582" name="Ink 10" descr=""/>
          <p:cNvPicPr/>
          <p:nvPr/>
        </p:nvPicPr>
        <p:blipFill>
          <a:blip r:embed="rId7"/>
          <a:stretch/>
        </p:blipFill>
        <p:spPr>
          <a:xfrm>
            <a:off x="4248000" y="6127920"/>
            <a:ext cx="709920" cy="27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hat is a Federal Cr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ri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a crime that is either made illegal by U.S. federal legislation or a crime that occurs on U.S. federal proper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hostage-t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with the intent of preventing testimony by a witness, victim, or informant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iling of injurious articles with intent to kill or resulting in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for hi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nk-robbery-related murder or kidnapp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by the use of a weapon of mass destruc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fficking in large quantities of drug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95320" y="10666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related to the smuggling of illegal immigr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during a drug-related drive-by shoo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at an airport serving international civil avi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vil rights offenses resulting in dea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member of Congress, an important executive official, or a Supreme Court Justi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by the use of a firearm during a crime of violence or a drug trafficking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U.S. national in a foreign count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kidnapp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involving tortu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pion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jacking of airpl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Federal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isdi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hority of the courts to hear certain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ypes of Feder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y to hear a case for the firs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ls are conducted, evidence is presented, and juries determine outcome of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District Cour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n certain cases) have origin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ts that hear reviews or appeals of decisions from the lower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ourts of Appeal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Concurrent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certain types of cases to be tried in either the federal or state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)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ry state has at least one;  more people = more district cour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GA has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istrict courts (w/ over 550 judg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civil and criminal cases arising under the Constitution and federal la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ppointed by President of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 only be remov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 guilty ver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articipants in the Judicial Syste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ig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intif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ringing the char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enda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eing accused or char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people who decide the outcome of the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gavel"/>
          <p:cNvPicPr/>
          <p:nvPr/>
        </p:nvPicPr>
        <p:blipFill>
          <a:blip r:embed="rId1"/>
          <a:stretch/>
        </p:blipFill>
        <p:spPr>
          <a:xfrm>
            <a:off x="685800" y="312408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Anderson, Jacquelyn</cp:lastModifiedBy>
  <dcterms:modified xsi:type="dcterms:W3CDTF">2011-04-28T17:12:46Z</dcterms:modified>
  <cp:revision>14</cp:revision>
  <dc:subject/>
  <dc:title>The Judicial Branch</dc:title>
</cp:coreProperties>
</file>